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A6F-C5DE-440F-811B-CCBD8AC3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7D5-477E-4F9F-8EF5-F23EEC41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78F-6C7A-41D0-8443-613DFD9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AA7-C013-4ADB-A534-5DB9B14D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EA8-5D84-4AB2-BBBD-E592274B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CF9-9C90-41FD-837E-A48BD02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FCE4-12B4-4A43-8650-3800E601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F3F2-8648-4CE9-AA26-07B5D6A1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78DE-F07F-4D65-9D43-088F4108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C7B2-1EB0-470B-8800-5CEFD723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CFC7-FE22-46B0-90C1-7C2E53AF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DD8-4968-4ED6-B1E5-2C8705A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EEC2-E246-44EE-899C-F171582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187-46FF-45D5-BC14-D732626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89F-B238-451E-A251-CEE03714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ACE4-9607-4F53-8EF2-59AB1438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E2EC-582B-4D86-B63D-655ADD65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880-BF1C-4977-8AB5-836A39C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BD5-1D0F-4471-9054-67C93C4F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1A7-54E3-47E8-AD9A-21A9C8E3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4F9-8719-48FA-9427-36E51C8F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9C5-E6D4-4B29-A9D7-7073088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2EA-770E-4299-A46E-F4559FC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7CC-02DA-4D42-9330-8401DD4C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885C-B9C2-4AB4-A08D-113EA6E2AAD8}" type="slidenum">
              <a:rPr b="1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7F8-0FCF-46E9-8A94-ED478F37CE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1.1: Completing the squa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ecember 3, 2007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y a few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8x-9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3x-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a few mo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4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8x-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4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8x+3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assig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age 722  (10-54 even)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You will be able to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olve quadratic equations by using the square root method.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Solve quadratic equations by completing the square</a:t>
            </a:r>
            <a:endParaRPr b="0" i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quadratic equa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 quadratic is a polynomial equation of the second degree. The general form i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” cannot equal zero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What type of equation would it be if a equaled zero?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4038840" cy="608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by facto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n previous chapters, we factored this type of equation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ry this one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3x+2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Or this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25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square root meth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f 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, then.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=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√k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or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= -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Try a few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=49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  <a:ea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-5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f it is more difficul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” may not equal one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3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27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2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4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ometimes you may have complex solutions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4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re uses for square root meth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You may also have equations in this form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ry these…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7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4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-3=0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ow would you solve the following equations for x?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+h=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±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x= -h±√k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  <a:ea typeface="Arial"/>
              </a:rPr>
              <a:t>	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leting the squa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h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2h+h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quadratics are perfect squares, but you can make a perfect square by: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+c=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=d-c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ake b and divide by 2… (this is a constant 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at will be added to both sides)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x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+bx+(b/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d-c+(b/2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(x+(b/2))</a:t>
            </a:r>
            <a:r>
              <a:rPr b="0" i="1" lang="en-US" sz="3200" spc="-1" strike="noStrike" baseline="30000">
                <a:solidFill>
                  <a:srgbClr val="96969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=d-c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w you can use the square root property to solve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8:30:11Z</dcterms:created>
  <dc:creator>nuhs</dc:creator>
  <dc:description/>
  <dc:language>en-US</dc:language>
  <cp:lastModifiedBy>nuhs</cp:lastModifiedBy>
  <dcterms:modified xsi:type="dcterms:W3CDTF">2007-12-03T21:34:15Z</dcterms:modified>
  <cp:revision>5</cp:revision>
  <dc:subject/>
  <dc:title>11.1: Completing the square </dc:title>
</cp:coreProperties>
</file>